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F04-DA0B-4177-8BE9-CA9773F2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E17-AA98-4244-824B-0FF32D8E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A52-3E91-4472-8048-BB16DA54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308-992E-43FF-92FC-AE0460C0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4BF0-FD3D-45FC-865F-7F4A1704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37EE-31AD-480D-8401-ED48D1E0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496E-A1EE-4E54-8F41-2DB1A7C7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DC4F-F4D5-4579-AE32-6DDABC97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9E52-EF91-4477-8EF0-A4162E6C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B35C-BB3A-49A0-838B-229D4229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9571-74E5-420A-874D-8A495DC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E5F-466A-4559-A1C7-C222D0DF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61ED-4D5C-4B8F-B03B-D313AD40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A9C9-DBFF-4ACA-9D81-37A5A0A4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E252-C613-4FDD-AFAD-9AE92265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0436-4449-4332-976C-CF89F03D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6542-DD56-4F5B-934E-58DD9DAD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8DFD-6FBD-4999-B598-1A7709E8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D4F9-CEC7-4772-AFA7-ED377570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4F1B-7AA3-4412-B326-3139AAED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DBAF-3540-4313-8012-1941B9E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7C83-A876-4D6F-A154-4C3357AF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2FE-3E41-4EA8-BA27-E15B544D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E8B5-0FFE-4EEC-9D1D-DEE86511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4766-F036-425D-B643-447964F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D894-FBE8-4AFA-92F7-C858B39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19416-4B67-4986-BA39-5AF48F65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83AE-F873-4EE9-BE57-4424C038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497A-97C3-4A6D-86B6-7232970C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87DF-F895-40DE-A77E-36724376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A14C-666B-4611-AEC4-D50CDB6F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BEF82-D182-4893-84AA-5BAC155B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DA5B-0CC5-4996-8587-ACF4DFCC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4B0-2997-47CF-B029-6DE29F16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5F64-26F9-47E5-816F-3F0E535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318E-3FD8-4EBF-B5E9-EA5A6366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B9A5-956D-4CC3-AB24-CE43657E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A68F7-B2A1-48D2-A8F9-FB0CA75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5843-3A34-44DC-BD92-F18B010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867D-B245-4726-B7A3-4AC0921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777B1-C905-428A-9639-617F9AF7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64DB-8FD0-40DE-BFA1-2C21832E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EC2F-C160-41D8-9940-B1C9D532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BCA-8FB3-44C7-ACEB-244A1237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088-1000-4C13-AD68-EB3C204E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3F9-0BAE-4354-A69F-8AEC3192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195-10BA-4713-B8B1-58D65237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FE9-F2C0-47CF-9527-9121CB3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D26EE-9702-4217-94B2-68D38265042E}" type="slidenum">
              <a: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67978-905C-4276-91D8-D164BE267EE6}" type="slidenum">
              <a: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E62EC-D8DC-48BD-8485-1699E33963AE}" type="slidenum">
              <a: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3FAC2-BB30-4FEF-B338-C6D06F5BFB36}" type="slidenum">
              <a: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9560" y="1298520"/>
            <a:ext cx="752940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宋体"/>
                <a:ea typeface="宋体"/>
              </a:rPr>
              <a:t>2025</a:t>
            </a:r>
            <a:r>
              <a:rPr b="0" lang="zh-CN" sz="5900" spc="-1" strike="noStrike">
                <a:solidFill>
                  <a:srgbClr val="ffffff"/>
                </a:solidFill>
                <a:latin typeface="Corbel"/>
                <a:ea typeface="幼圆"/>
              </a:rPr>
              <a:t>届校级优秀毕业生审核流程</a:t>
            </a:r>
            <a:endParaRPr b="0" lang="en-US" sz="5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00160" y="4670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d9f1f6"/>
                </a:solidFill>
                <a:latin typeface="Corbel"/>
                <a:ea typeface="幼圆"/>
              </a:rPr>
              <a:t>管理员使用手册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72" name="图片 3" descr=""/>
          <p:cNvPicPr/>
          <p:nvPr/>
        </p:nvPicPr>
        <p:blipFill>
          <a:blip r:embed="rId1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登录网站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68200" y="732960"/>
            <a:ext cx="75502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进入学校官网（</a:t>
            </a:r>
            <a:r>
              <a:rPr b="0" lang="en-US" sz="2000" spc="-1" strike="noStrike">
                <a:solidFill>
                  <a:srgbClr val="595959"/>
                </a:solidFill>
                <a:latin typeface="Corbel"/>
                <a:ea typeface="幼圆"/>
              </a:rPr>
              <a:t>https://www.shiep.edu.cn/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），找到招生就业栏目的“本科生就业”进入就业网站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75" name="图片 5" descr=""/>
          <p:cNvPicPr/>
          <p:nvPr/>
        </p:nvPicPr>
        <p:blipFill>
          <a:blip r:embed="rId1"/>
          <a:stretch/>
        </p:blipFill>
        <p:spPr>
          <a:xfrm>
            <a:off x="3868560" y="1654200"/>
            <a:ext cx="7550280" cy="187164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sp>
        <p:nvSpPr>
          <p:cNvPr id="176" name="内容占位符 2"/>
          <p:cNvSpPr/>
          <p:nvPr/>
        </p:nvSpPr>
        <p:spPr>
          <a:xfrm>
            <a:off x="3868560" y="3560760"/>
            <a:ext cx="7550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点击“学校登录”，使用学校的统一身份认证账号进行登录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7" name="图片 6" descr=""/>
          <p:cNvPicPr/>
          <p:nvPr/>
        </p:nvPicPr>
        <p:blipFill>
          <a:blip r:embed="rId2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8" descr=""/>
          <p:cNvPicPr/>
          <p:nvPr/>
        </p:nvPicPr>
        <p:blipFill>
          <a:blip r:embed="rId3"/>
          <a:stretch/>
        </p:blipFill>
        <p:spPr>
          <a:xfrm>
            <a:off x="3868560" y="4492800"/>
            <a:ext cx="7550280" cy="161424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进入栏目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68560" y="776160"/>
            <a:ext cx="75074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登录后可在就业管理栏目中的“优秀毕业生登记”的右下角找到待审核的学生信息（辅导员点击辅导员待审，院系书记点击院系待审，校级管理员点击学校待审） 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81" name="图片 4" descr=""/>
          <p:cNvPicPr/>
          <p:nvPr/>
        </p:nvPicPr>
        <p:blipFill>
          <a:blip r:embed="rId1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" descr=""/>
          <p:cNvPicPr/>
          <p:nvPr/>
        </p:nvPicPr>
        <p:blipFill>
          <a:blip r:embed="rId2"/>
          <a:stretch/>
        </p:blipFill>
        <p:spPr>
          <a:xfrm>
            <a:off x="3868560" y="2678040"/>
            <a:ext cx="7507440" cy="338148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审核信息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84" name="图片 15" descr=""/>
          <p:cNvPicPr/>
          <p:nvPr/>
        </p:nvPicPr>
        <p:blipFill>
          <a:blip r:embed="rId1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868560" y="775800"/>
            <a:ext cx="750744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找到待审核的学生后，双击即可进入审核页面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审核时需注意：</a:t>
            </a:r>
            <a:r>
              <a:rPr b="0" lang="en-US" sz="2000" spc="-1" strike="noStrike">
                <a:solidFill>
                  <a:srgbClr val="595959"/>
                </a:solidFill>
                <a:latin typeface="Corbel"/>
                <a:ea typeface="幼圆"/>
              </a:rPr>
              <a:t>1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）申请学生信息填写是否完整；</a:t>
            </a:r>
            <a:r>
              <a:rPr b="0" lang="en-US" sz="2000" spc="-1" strike="noStrike">
                <a:solidFill>
                  <a:srgbClr val="595959"/>
                </a:solidFill>
                <a:latin typeface="Corbel"/>
                <a:ea typeface="幼圆"/>
              </a:rPr>
              <a:t>2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）审核时在学校意见处填写学校意见，如“同意”；</a:t>
            </a:r>
            <a:r>
              <a:rPr b="0" lang="en-US" sz="2000" spc="-1" strike="noStrike">
                <a:solidFill>
                  <a:srgbClr val="595959"/>
                </a:solidFill>
                <a:latin typeface="Corbel"/>
                <a:ea typeface="幼圆"/>
              </a:rPr>
              <a:t>3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）确实信息无误后可进行“审核通过”操作，提交至下一层级管理员进行审核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86" name="图片 2" descr=""/>
          <p:cNvPicPr/>
          <p:nvPr/>
        </p:nvPicPr>
        <p:blipFill>
          <a:blip r:embed="rId2"/>
          <a:stretch/>
        </p:blipFill>
        <p:spPr>
          <a:xfrm>
            <a:off x="3875040" y="2678040"/>
            <a:ext cx="75009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审核事项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88" name="图片 15" descr=""/>
          <p:cNvPicPr/>
          <p:nvPr/>
        </p:nvPicPr>
        <p:blipFill>
          <a:blip r:embed="rId1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3868560" y="775800"/>
            <a:ext cx="750744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表单中的“性别”、“生源地”、“身份证号”、“出生日期”、“政治面貌”、“民族”字段的内容取自生源信息栏目，在优秀毕业生登记栏目中不可编辑，如有错误请在“生源信息”栏目进行调整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0" name="图片 3" descr=""/>
          <p:cNvPicPr/>
          <p:nvPr/>
        </p:nvPicPr>
        <p:blipFill>
          <a:blip r:embed="rId2"/>
          <a:stretch/>
        </p:blipFill>
        <p:spPr>
          <a:xfrm>
            <a:off x="3868560" y="2187720"/>
            <a:ext cx="7507440" cy="419724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数据导出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92" name="图片 15" descr=""/>
          <p:cNvPicPr/>
          <p:nvPr/>
        </p:nvPicPr>
        <p:blipFill>
          <a:blip r:embed="rId1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868560" y="775800"/>
            <a:ext cx="750744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全部审核通过后点击“导出”形成</a:t>
            </a:r>
            <a:r>
              <a:rPr b="0" lang="en-US" sz="2000" spc="-1" strike="noStrike">
                <a:solidFill>
                  <a:srgbClr val="595959"/>
                </a:solidFill>
                <a:latin typeface="Corbel"/>
                <a:ea typeface="幼圆"/>
              </a:rPr>
              <a:t>excel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汇总表，默认已将学校要求的字段进行了勾选，可直接点击导出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导出的</a:t>
            </a:r>
            <a:r>
              <a:rPr b="0" lang="en-US" sz="2000" spc="-1" strike="noStrike">
                <a:solidFill>
                  <a:srgbClr val="595959"/>
                </a:solidFill>
                <a:latin typeface="Corbel"/>
                <a:ea typeface="幼圆"/>
              </a:rPr>
              <a:t>excel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表格中请在最前端加入序号一列，并制成表格，表格统一命名为“</a:t>
            </a:r>
            <a:r>
              <a:rPr b="0" lang="en-US" sz="2000" spc="-1" strike="noStrike">
                <a:solidFill>
                  <a:srgbClr val="595959"/>
                </a:solidFill>
                <a:latin typeface="Corbel"/>
                <a:ea typeface="幼圆"/>
              </a:rPr>
              <a:t>XXX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学院</a:t>
            </a:r>
            <a:r>
              <a:rPr b="0" lang="en-US" sz="2000" spc="-1" strike="noStrike">
                <a:solidFill>
                  <a:srgbClr val="595959"/>
                </a:solidFill>
                <a:latin typeface="宋体"/>
                <a:ea typeface="宋体"/>
              </a:rPr>
              <a:t>2023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届校级优秀毕业生名单”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4" name="图片 2" descr=""/>
          <p:cNvPicPr/>
          <p:nvPr/>
        </p:nvPicPr>
        <p:blipFill>
          <a:blip r:embed="rId2"/>
          <a:stretch/>
        </p:blipFill>
        <p:spPr>
          <a:xfrm>
            <a:off x="3868560" y="2166840"/>
            <a:ext cx="7507440" cy="444024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0032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登记表打印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96" name="图片 15" descr=""/>
          <p:cNvPicPr/>
          <p:nvPr/>
        </p:nvPicPr>
        <p:blipFill>
          <a:blip r:embed="rId1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868560" y="776160"/>
            <a:ext cx="750744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审核通过的学生勾选后，管理员可点击功能菜单中的“套打”按钮，打开弹窗，勾选打印前预览，点击“打印”按钮查看</a:t>
            </a:r>
            <a:r>
              <a:rPr b="0" lang="en-US" sz="2000" spc="-1" strike="noStrike">
                <a:solidFill>
                  <a:srgbClr val="595959"/>
                </a:solidFill>
                <a:latin typeface="Corbel"/>
                <a:ea typeface="幼圆"/>
              </a:rPr>
              <a:t>pdf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形式的优秀毕业生申请暨登记表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图片 3" descr=""/>
          <p:cNvPicPr/>
          <p:nvPr/>
        </p:nvPicPr>
        <p:blipFill>
          <a:blip r:embed="rId2"/>
          <a:stretch/>
        </p:blipFill>
        <p:spPr>
          <a:xfrm>
            <a:off x="3868560" y="1822320"/>
            <a:ext cx="7507440" cy="438948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0T06:33:20Z</dcterms:created>
  <dc:creator>janeyun0312@126.com</dc:creator>
  <dc:description/>
  <dc:language>en-US</dc:language>
  <cp:lastModifiedBy>admin</cp:lastModifiedBy>
  <dcterms:modified xsi:type="dcterms:W3CDTF">2024-10-17T02:40:22Z</dcterms:modified>
  <cp:revision>18</cp:revision>
  <dc:subject/>
  <dc:title>优秀毕业生申请流程</dc:title>
</cp:coreProperties>
</file>