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161B-2F8D-4477-AF24-FA8B353C2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15C2-CE5A-4B32-AF25-362FA759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2BB8-1FEF-4EFA-8322-07A14E66C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602D-D933-4C6D-BD83-FAB6B3FAD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BEF9-39D8-43B3-AF82-BA652E8E7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EE8C-7D18-474A-A7CF-005F6D21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1118-3C7F-43D6-8477-7D4F945C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A219-33E2-4504-9D00-FA51BE96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20F5-7E94-410C-B3B0-EA01E4EB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1917-855D-47DA-A597-9B915667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25DD-BCF0-4081-A277-23A38AA0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5DD2-9A39-498B-B295-24B7342D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3A2D-85B2-4E19-90C3-4795D812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C561-A273-4135-99A5-3A49E6C5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C12D-A329-4B9D-8A76-EBC5158C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92B9-A2C3-4A43-99CB-5BB8118B7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45C9-92D9-4CBF-9BDD-F624D5C6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3FFD8-498D-4340-BC8A-B9D1A9BB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3C4BD-0A58-45BB-AD10-24713F4D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2C47C-A9FD-4A81-9456-3E9A2E37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6B809-F475-417F-8DCD-50CD0945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FDD1D-420A-4CA0-8148-FB7A28DB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78FB-D185-4CA2-8FD3-6104EB9D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3FDD3-9676-4978-BE03-AEFEA112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58A8D-F36F-4A3A-AAED-A8478347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E1D50-D514-4823-8957-B9437B24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C0AAC-D6D9-4C6D-A4F2-BB00593B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BC0D8-BE51-43A8-A042-BA365DAA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D0D05-B02A-4D61-AA37-5CEBD9FC6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DB941-9D89-4775-9E2E-0D64C1F8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2FED9-35CC-4DCD-AA11-A2D71555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87876-564C-4036-B2C8-628DF718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23563-16D2-406C-B0B7-DB51CF39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184A-8DC0-493E-BEC7-F50FB3CA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5ECE1-BB47-414A-9552-07DB24DD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EFD4F-B011-4AA5-962C-B741FDB1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CD42E-9387-4043-998A-3FD6DC14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E8DCE-9AFF-4662-9F5D-7ACD9990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480F2-FA76-4C38-B51F-288C4367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27CC2-1CBE-45B3-8127-9881209E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F3DCD-8412-4368-A9C5-B72812AC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DEE0A-51A6-476C-8DE4-6E4E357BD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CA297-EB74-4A02-AB0D-B55275DD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F711-6881-46D1-9463-F014354D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E916-BF37-45E9-ADC5-CEB2108C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7F93-88C9-4A87-9E7D-B364041D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36AD-23A0-4F09-81C8-2FEA75A7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A14D-8DF9-4DA4-9C8A-E758F579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758880"/>
            <a:ext cx="3443400" cy="533088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37"/>
          <p:cNvSpPr/>
          <p:nvPr/>
        </p:nvSpPr>
        <p:spPr>
          <a:xfrm>
            <a:off x="11815920" y="758880"/>
            <a:ext cx="384120" cy="533088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  <a:ea typeface="宋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8B2EC2-E007-4073-A9FA-0218357FEBA6}" type="slidenum">
              <a:rPr b="1" lang="en-US" sz="1200" spc="-1" strike="noStrike">
                <a:solidFill>
                  <a:srgbClr val="40bad2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762120"/>
            <a:ext cx="9142560" cy="533376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271080" y="762120"/>
            <a:ext cx="2923920" cy="533376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  <a:ea typeface="宋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7723B2-97DA-4875-A280-CC0E01041791}" type="slidenum">
              <a:rPr b="1" lang="en-US" sz="1200" spc="-1" strike="noStrike">
                <a:solidFill>
                  <a:srgbClr val="40bad2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  <a:ea typeface="宋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984E42-D2AC-43A9-8B59-B339DC05AB84}" type="slidenum">
              <a:rPr b="1" lang="en-US" sz="1200" spc="-1" strike="noStrike">
                <a:solidFill>
                  <a:srgbClr val="40bad2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0" y="758880"/>
            <a:ext cx="3443400" cy="533088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Rectangle 37"/>
          <p:cNvSpPr/>
          <p:nvPr/>
        </p:nvSpPr>
        <p:spPr>
          <a:xfrm>
            <a:off x="11815920" y="758880"/>
            <a:ext cx="384120" cy="533088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  <a:ea typeface="宋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49884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59C9C3-5BA1-409F-A7B0-DA1B221DE7D6}" type="slidenum">
              <a:rPr b="1" lang="en-US" sz="1200" spc="-1" strike="noStrike">
                <a:solidFill>
                  <a:srgbClr val="40bad2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9560" y="1298520"/>
            <a:ext cx="7529400" cy="325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ffff"/>
                </a:solidFill>
                <a:latin typeface="宋体"/>
                <a:ea typeface="宋体"/>
              </a:rPr>
              <a:t>2025</a:t>
            </a:r>
            <a:r>
              <a:rPr b="0" lang="zh-CN" sz="5900" spc="-1" strike="noStrike">
                <a:solidFill>
                  <a:srgbClr val="ffffff"/>
                </a:solidFill>
                <a:latin typeface="Corbel"/>
                <a:ea typeface="幼圆"/>
              </a:rPr>
              <a:t>届校级优秀毕业生申请流程</a:t>
            </a:r>
            <a:endParaRPr b="0" lang="en-US" sz="59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100160" y="4670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d9f1f6"/>
                </a:solidFill>
                <a:latin typeface="Corbel"/>
                <a:ea typeface="幼圆"/>
              </a:rPr>
              <a:t>学生使用手册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172" name="图片 3" descr=""/>
          <p:cNvPicPr/>
          <p:nvPr/>
        </p:nvPicPr>
        <p:blipFill>
          <a:blip r:embed="rId1"/>
          <a:stretch/>
        </p:blipFill>
        <p:spPr>
          <a:xfrm>
            <a:off x="10271160" y="98280"/>
            <a:ext cx="1838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  <a:ea typeface="幼圆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Corbel"/>
                <a:ea typeface="幼圆"/>
              </a:rPr>
              <a:t>、登录网站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868200" y="732960"/>
            <a:ext cx="755028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orbel"/>
                <a:ea typeface="幼圆"/>
              </a:rPr>
              <a:t>进入学校官网（</a:t>
            </a:r>
            <a:r>
              <a:rPr b="0" lang="en-US" sz="2000" spc="-1" strike="noStrike">
                <a:solidFill>
                  <a:srgbClr val="595959"/>
                </a:solidFill>
                <a:latin typeface="Corbel"/>
                <a:ea typeface="幼圆"/>
              </a:rPr>
              <a:t>https://www.shiep.edu.cn/</a:t>
            </a:r>
            <a:r>
              <a:rPr b="0" lang="zh-CN" sz="2000" spc="-1" strike="noStrike">
                <a:solidFill>
                  <a:srgbClr val="595959"/>
                </a:solidFill>
                <a:latin typeface="Corbel"/>
                <a:ea typeface="幼圆"/>
              </a:rPr>
              <a:t>），找到招生就业栏目的“本科生就业”进入就业网站。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175" name="图片 5" descr=""/>
          <p:cNvPicPr/>
          <p:nvPr/>
        </p:nvPicPr>
        <p:blipFill>
          <a:blip r:embed="rId1"/>
          <a:stretch/>
        </p:blipFill>
        <p:spPr>
          <a:xfrm>
            <a:off x="3868560" y="1654200"/>
            <a:ext cx="7550280" cy="1871640"/>
          </a:xfrm>
          <a:prstGeom prst="rect">
            <a:avLst/>
          </a:prstGeom>
          <a:ln w="9360">
            <a:solidFill>
              <a:srgbClr val="40bad2"/>
            </a:solidFill>
            <a:miter/>
          </a:ln>
        </p:spPr>
      </p:pic>
      <p:sp>
        <p:nvSpPr>
          <p:cNvPr id="176" name="内容占位符 2"/>
          <p:cNvSpPr/>
          <p:nvPr/>
        </p:nvSpPr>
        <p:spPr>
          <a:xfrm>
            <a:off x="3868560" y="3560760"/>
            <a:ext cx="7550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orbel"/>
                <a:ea typeface="幼圆"/>
              </a:rPr>
              <a:t>点击“学生登录”，使用学校的统一身份认证账号进行登录。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77" name="图片 3" descr=""/>
          <p:cNvPicPr/>
          <p:nvPr/>
        </p:nvPicPr>
        <p:blipFill>
          <a:blip r:embed="rId2"/>
          <a:stretch/>
        </p:blipFill>
        <p:spPr>
          <a:xfrm>
            <a:off x="3868560" y="4492800"/>
            <a:ext cx="7550280" cy="1582560"/>
          </a:xfrm>
          <a:prstGeom prst="rect">
            <a:avLst/>
          </a:prstGeom>
          <a:ln w="9360">
            <a:solidFill>
              <a:srgbClr val="40bad2"/>
            </a:solidFill>
            <a:miter/>
          </a:ln>
        </p:spPr>
      </p:pic>
      <p:pic>
        <p:nvPicPr>
          <p:cNvPr id="178" name="图片 6" descr=""/>
          <p:cNvPicPr/>
          <p:nvPr/>
        </p:nvPicPr>
        <p:blipFill>
          <a:blip r:embed="rId3"/>
          <a:stretch/>
        </p:blipFill>
        <p:spPr>
          <a:xfrm>
            <a:off x="10353600" y="0"/>
            <a:ext cx="1838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  <a:ea typeface="幼圆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Corbel"/>
                <a:ea typeface="幼圆"/>
              </a:rPr>
              <a:t>、进入栏目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868560" y="776160"/>
            <a:ext cx="75074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orbel"/>
                <a:ea typeface="幼圆"/>
              </a:rPr>
              <a:t>登录后可在学生中心左侧的导航菜单中找到就业手续栏目中的“优秀毕业生登记”，点击“编辑”按钮可进入填报页面进行登记申请 。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181" name="图片 6" descr=""/>
          <p:cNvPicPr/>
          <p:nvPr/>
        </p:nvPicPr>
        <p:blipFill>
          <a:blip r:embed="rId1"/>
          <a:stretch/>
        </p:blipFill>
        <p:spPr>
          <a:xfrm>
            <a:off x="3868560" y="2319480"/>
            <a:ext cx="7507440" cy="3746520"/>
          </a:xfrm>
          <a:prstGeom prst="rect">
            <a:avLst/>
          </a:prstGeom>
          <a:ln w="9360">
            <a:solidFill>
              <a:srgbClr val="40bad2"/>
            </a:solidFill>
            <a:miter/>
          </a:ln>
        </p:spPr>
      </p:pic>
      <p:pic>
        <p:nvPicPr>
          <p:cNvPr id="182" name="图片 5" descr=""/>
          <p:cNvPicPr/>
          <p:nvPr/>
        </p:nvPicPr>
        <p:blipFill>
          <a:blip r:embed="rId2"/>
          <a:stretch/>
        </p:blipFill>
        <p:spPr>
          <a:xfrm>
            <a:off x="10353600" y="0"/>
            <a:ext cx="1838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  <a:ea typeface="幼圆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Corbel"/>
                <a:ea typeface="幼圆"/>
              </a:rPr>
              <a:t>、申请提交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84" name="图片 3" descr=""/>
          <p:cNvPicPr/>
          <p:nvPr/>
        </p:nvPicPr>
        <p:blipFill>
          <a:blip r:embed="rId1"/>
          <a:stretch/>
        </p:blipFill>
        <p:spPr>
          <a:xfrm>
            <a:off x="3532320" y="826920"/>
            <a:ext cx="6011640" cy="2373480"/>
          </a:xfrm>
          <a:prstGeom prst="rect">
            <a:avLst/>
          </a:prstGeom>
          <a:ln w="9360">
            <a:solidFill>
              <a:srgbClr val="40bad2"/>
            </a:solidFill>
            <a:miter/>
          </a:ln>
        </p:spPr>
      </p:pic>
      <p:pic>
        <p:nvPicPr>
          <p:cNvPr id="185" name="图片 5" descr=""/>
          <p:cNvPicPr/>
          <p:nvPr/>
        </p:nvPicPr>
        <p:blipFill>
          <a:blip r:embed="rId2"/>
          <a:stretch/>
        </p:blipFill>
        <p:spPr>
          <a:xfrm>
            <a:off x="3532320" y="3200400"/>
            <a:ext cx="6011640" cy="2982960"/>
          </a:xfrm>
          <a:prstGeom prst="rect">
            <a:avLst/>
          </a:prstGeom>
          <a:ln w="9360">
            <a:solidFill>
              <a:srgbClr val="40bad2"/>
            </a:solidFill>
            <a:miter/>
          </a:ln>
        </p:spPr>
      </p:pic>
      <p:sp>
        <p:nvSpPr>
          <p:cNvPr id="186" name="内容占位符 2"/>
          <p:cNvSpPr/>
          <p:nvPr/>
        </p:nvSpPr>
        <p:spPr>
          <a:xfrm>
            <a:off x="7897680" y="2525760"/>
            <a:ext cx="35560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orbel"/>
                <a:ea typeface="幼圆"/>
              </a:rPr>
              <a:t>评选类型选择“校级优秀毕业生”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内容占位符 2"/>
          <p:cNvSpPr/>
          <p:nvPr/>
        </p:nvSpPr>
        <p:spPr>
          <a:xfrm>
            <a:off x="7897680" y="3106800"/>
            <a:ext cx="35560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orbel"/>
                <a:ea typeface="幼圆"/>
              </a:rPr>
              <a:t>综合测评成绩请按实际情况填写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内容占位符 2"/>
          <p:cNvSpPr/>
          <p:nvPr/>
        </p:nvSpPr>
        <p:spPr>
          <a:xfrm>
            <a:off x="7897680" y="3487680"/>
            <a:ext cx="39783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orbel"/>
                <a:ea typeface="幼圆"/>
              </a:rPr>
              <a:t>综合测评成绩专业排名填写规则为：</a:t>
            </a:r>
            <a:r>
              <a:rPr b="0" lang="en-US" sz="1400" spc="-1" strike="noStrike">
                <a:solidFill>
                  <a:srgbClr val="595959"/>
                </a:solidFill>
                <a:latin typeface="Corbel"/>
                <a:ea typeface="幼圆"/>
              </a:rPr>
              <a:t>XX</a:t>
            </a:r>
            <a:r>
              <a:rPr b="0" lang="zh-CN" sz="1400" spc="-1" strike="noStrike">
                <a:solidFill>
                  <a:srgbClr val="595959"/>
                </a:solidFill>
                <a:latin typeface="Corbel"/>
                <a:ea typeface="幼圆"/>
              </a:rPr>
              <a:t>（个人排名）</a:t>
            </a:r>
            <a:r>
              <a:rPr b="0" lang="en-US" sz="1400" spc="-1" strike="noStrike">
                <a:solidFill>
                  <a:srgbClr val="595959"/>
                </a:solidFill>
                <a:latin typeface="Corbel"/>
                <a:ea typeface="幼圆"/>
              </a:rPr>
              <a:t>/XX</a:t>
            </a:r>
            <a:r>
              <a:rPr b="0" lang="zh-CN" sz="1400" spc="-1" strike="noStrike">
                <a:solidFill>
                  <a:srgbClr val="595959"/>
                </a:solidFill>
                <a:latin typeface="Corbel"/>
                <a:ea typeface="幼圆"/>
              </a:rPr>
              <a:t>（专业总人数）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内容占位符 2"/>
          <p:cNvSpPr/>
          <p:nvPr/>
        </p:nvSpPr>
        <p:spPr>
          <a:xfrm>
            <a:off x="7897680" y="4076640"/>
            <a:ext cx="35560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幼圆"/>
                <a:ea typeface="幼圆"/>
              </a:rPr>
              <a:t>评选年月为系统默认，无需填写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内容占位符 2"/>
          <p:cNvSpPr/>
          <p:nvPr/>
        </p:nvSpPr>
        <p:spPr>
          <a:xfrm>
            <a:off x="7897680" y="4548240"/>
            <a:ext cx="3556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幼圆"/>
                <a:ea typeface="幼圆"/>
              </a:rPr>
              <a:t>主要事迹填写</a:t>
            </a:r>
            <a:r>
              <a:rPr b="0" lang="en-US" sz="1400" spc="-1" strike="noStrike">
                <a:solidFill>
                  <a:srgbClr val="595959"/>
                </a:solidFill>
                <a:latin typeface="幼圆"/>
                <a:ea typeface="幼圆"/>
              </a:rPr>
              <a:t>600-800</a:t>
            </a:r>
            <a:r>
              <a:rPr b="0" lang="zh-CN" sz="1400" spc="-1" strike="noStrike">
                <a:solidFill>
                  <a:srgbClr val="595959"/>
                </a:solidFill>
                <a:latin typeface="幼圆"/>
                <a:ea typeface="幼圆"/>
              </a:rPr>
              <a:t>字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内容占位符 2"/>
          <p:cNvSpPr/>
          <p:nvPr/>
        </p:nvSpPr>
        <p:spPr>
          <a:xfrm>
            <a:off x="7897680" y="5802480"/>
            <a:ext cx="39020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11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Corbel"/>
                <a:ea typeface="幼圆"/>
              </a:rPr>
              <a:t>全部填写完毕点击</a:t>
            </a:r>
            <a:r>
              <a:rPr b="0" lang="zh-CN" sz="1400" spc="-1" strike="noStrike">
                <a:solidFill>
                  <a:srgbClr val="ff0000"/>
                </a:solidFill>
                <a:latin typeface="Corbel"/>
                <a:ea typeface="幼圆"/>
              </a:rPr>
              <a:t>“保存并送审”</a:t>
            </a:r>
            <a:r>
              <a:rPr b="0" lang="zh-CN" sz="1400" spc="-1" strike="noStrike">
                <a:solidFill>
                  <a:srgbClr val="595959"/>
                </a:solidFill>
                <a:latin typeface="Corbel"/>
                <a:ea typeface="幼圆"/>
              </a:rPr>
              <a:t>提交审核（暂存为未填写完整时的暂时保存）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92" name="图片 15" descr=""/>
          <p:cNvPicPr/>
          <p:nvPr/>
        </p:nvPicPr>
        <p:blipFill>
          <a:blip r:embed="rId3"/>
          <a:stretch/>
        </p:blipFill>
        <p:spPr>
          <a:xfrm>
            <a:off x="10353600" y="0"/>
            <a:ext cx="1838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  <a:ea typeface="幼圆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Corbel"/>
                <a:ea typeface="幼圆"/>
              </a:rPr>
              <a:t>、等待审核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68560" y="776160"/>
            <a:ext cx="750744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orbel"/>
                <a:ea typeface="幼圆"/>
              </a:rPr>
              <a:t>提交后学生状态将变为“已提交”，此时需等待辅导员审核。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195" name="图片 4" descr=""/>
          <p:cNvPicPr/>
          <p:nvPr/>
        </p:nvPicPr>
        <p:blipFill>
          <a:blip r:embed="rId1"/>
          <a:stretch/>
        </p:blipFill>
        <p:spPr>
          <a:xfrm>
            <a:off x="3956040" y="1368360"/>
            <a:ext cx="7507440" cy="654120"/>
          </a:xfrm>
          <a:prstGeom prst="rect">
            <a:avLst/>
          </a:prstGeom>
          <a:ln w="9360">
            <a:solidFill>
              <a:srgbClr val="40bad2"/>
            </a:solidFill>
            <a:miter/>
          </a:ln>
        </p:spPr>
      </p:pic>
      <p:pic>
        <p:nvPicPr>
          <p:cNvPr id="196" name="图片 6" descr=""/>
          <p:cNvPicPr/>
          <p:nvPr/>
        </p:nvPicPr>
        <p:blipFill>
          <a:blip r:embed="rId2"/>
          <a:stretch/>
        </p:blipFill>
        <p:spPr>
          <a:xfrm>
            <a:off x="3956040" y="2747880"/>
            <a:ext cx="7507440" cy="628560"/>
          </a:xfrm>
          <a:prstGeom prst="rect">
            <a:avLst/>
          </a:prstGeom>
          <a:ln w="9360">
            <a:solidFill>
              <a:srgbClr val="40bad2"/>
            </a:solidFill>
            <a:miter/>
          </a:ln>
        </p:spPr>
      </p:pic>
      <p:sp>
        <p:nvSpPr>
          <p:cNvPr id="197" name="内容占位符 2"/>
          <p:cNvSpPr/>
          <p:nvPr/>
        </p:nvSpPr>
        <p:spPr>
          <a:xfrm>
            <a:off x="3868560" y="2075040"/>
            <a:ext cx="75074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orbel"/>
                <a:ea typeface="幼圆"/>
              </a:rPr>
              <a:t>辅导员审核通过后状态变为“辅导员审核通过”，此时需等待院系书记审核。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98" name="图片 8" descr=""/>
          <p:cNvPicPr/>
          <p:nvPr/>
        </p:nvPicPr>
        <p:blipFill>
          <a:blip r:embed="rId3"/>
          <a:stretch/>
        </p:blipFill>
        <p:spPr>
          <a:xfrm>
            <a:off x="3956040" y="4102200"/>
            <a:ext cx="7507440" cy="631800"/>
          </a:xfrm>
          <a:prstGeom prst="rect">
            <a:avLst/>
          </a:prstGeom>
          <a:ln w="9360">
            <a:solidFill>
              <a:srgbClr val="40bad2"/>
            </a:solidFill>
            <a:miter/>
          </a:ln>
        </p:spPr>
      </p:pic>
      <p:sp>
        <p:nvSpPr>
          <p:cNvPr id="199" name="内容占位符 2"/>
          <p:cNvSpPr/>
          <p:nvPr/>
        </p:nvSpPr>
        <p:spPr>
          <a:xfrm>
            <a:off x="3868560" y="3427560"/>
            <a:ext cx="750744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orbel"/>
                <a:ea typeface="幼圆"/>
              </a:rPr>
              <a:t>院系书记审核通过后状态变为“院系审核通过”，此时需等待校级管理员审核。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内容占位符 2"/>
          <p:cNvSpPr/>
          <p:nvPr/>
        </p:nvSpPr>
        <p:spPr>
          <a:xfrm>
            <a:off x="3868560" y="4784760"/>
            <a:ext cx="75074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orbel"/>
                <a:ea typeface="幼圆"/>
              </a:rPr>
              <a:t>校级管理员审核通过后状态变为“学校审核通过”，此时校级优秀毕业生申请即为通过。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01" name="图片 20" descr=""/>
          <p:cNvPicPr/>
          <p:nvPr/>
        </p:nvPicPr>
        <p:blipFill>
          <a:blip r:embed="rId4"/>
          <a:stretch/>
        </p:blipFill>
        <p:spPr>
          <a:xfrm>
            <a:off x="3956040" y="5459400"/>
            <a:ext cx="7507440" cy="622440"/>
          </a:xfrm>
          <a:prstGeom prst="rect">
            <a:avLst/>
          </a:prstGeom>
          <a:ln w="9360">
            <a:solidFill>
              <a:srgbClr val="40bad2"/>
            </a:solidFill>
            <a:miter/>
          </a:ln>
        </p:spPr>
      </p:pic>
      <p:pic>
        <p:nvPicPr>
          <p:cNvPr id="202" name="图片 21" descr=""/>
          <p:cNvPicPr/>
          <p:nvPr/>
        </p:nvPicPr>
        <p:blipFill>
          <a:blip r:embed="rId5"/>
          <a:stretch/>
        </p:blipFill>
        <p:spPr>
          <a:xfrm>
            <a:off x="10353600" y="0"/>
            <a:ext cx="1838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0T06:33:20Z</dcterms:created>
  <dc:creator>janeyun0312@126.com</dc:creator>
  <dc:description/>
  <dc:language>en-US</dc:language>
  <cp:lastModifiedBy>admin</cp:lastModifiedBy>
  <dcterms:modified xsi:type="dcterms:W3CDTF">2024-10-17T02:40:03Z</dcterms:modified>
  <cp:revision>15</cp:revision>
  <dc:subject/>
  <dc:title>优秀毕业生申请流程</dc:title>
</cp:coreProperties>
</file>